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57CC-D1B5-4FE2-9AE3-38504347A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6336-9CDB-4947-A8AE-B9291D59D4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FD6F-3131-4807-9FD0-00BAD81C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46A-6268-4EC3-9E0F-FAF2E509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5C13-F1B3-43B0-BA20-F5750629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B16-E790-4B9E-AE5A-D257BCB0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827-AF37-42E3-8147-53198B7D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7AB0-771B-44B9-8190-530E2DDA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9A5-C462-4CEE-8385-9A6146B3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5BA6-5E97-430A-866D-F851E5C2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8436-34A9-4F57-B5E6-600D4D71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BB49-6269-4F0F-9DD6-B009CDFB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7C0B-8B5F-491B-BE73-C0433728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5F6F-8F36-4468-9645-FA5C539E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3DDF-2888-4670-91E9-A5C37811AD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Instrument Rating -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“Flying in the Clouds”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1066680" y="1547640"/>
            <a:ext cx="7010640" cy="46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y get an Instrument Rating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335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fly in Instrument Meterological Conditions (IMC) or under Instrument Flight Rules (IFR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fly for hire &gt; 50 miles &amp; at nigh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fly above 18,000 fee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962520" y="1981080"/>
            <a:ext cx="48243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taining your Instrument Ra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52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ust have at least 50 hours cross-country PIC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Obtain 40 hours of simulated or actual instrument time with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 hours dua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ne 250 NM cross-country under IF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p to 20 hours in an FAA approved simul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nowledge Tes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actical Tes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4267080" y="3581280"/>
            <a:ext cx="45720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st of an Instrument Ra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iper Warrior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0 hours @ $115/hr = $4600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5 hours dual @ $50/hr = $75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A Knowledge test = $8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actical test = $30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ooks &amp; Suppl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3782880" cy="2514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4724280" y="50292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~ $600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Instrument Flying Work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Content Placeholder 7" descr="enroute.JPG"/>
          <p:cNvPicPr/>
          <p:nvPr/>
        </p:nvPicPr>
        <p:blipFill>
          <a:blip r:embed="rId2"/>
          <a:stretch/>
        </p:blipFill>
        <p:spPr>
          <a:xfrm>
            <a:off x="4267080" y="3048120"/>
            <a:ext cx="4764240" cy="36288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6" descr="29 approach.JPG"/>
          <p:cNvPicPr/>
          <p:nvPr/>
        </p:nvPicPr>
        <p:blipFill>
          <a:blip r:embed="rId3"/>
          <a:stretch/>
        </p:blipFill>
        <p:spPr>
          <a:xfrm>
            <a:off x="380880" y="1066680"/>
            <a:ext cx="3733920" cy="5666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4"/>
          <a:stretch/>
        </p:blipFill>
        <p:spPr>
          <a:xfrm>
            <a:off x="4295880" y="1155600"/>
            <a:ext cx="461952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3:01:22Z</dcterms:created>
  <dc:creator> </dc:creator>
  <dc:description/>
  <dc:language>en-US</dc:language>
  <cp:lastModifiedBy>Jeremy Katz</cp:lastModifiedBy>
  <dcterms:modified xsi:type="dcterms:W3CDTF">2008-04-16T00:02:07Z</dcterms:modified>
  <cp:revision>18</cp:revision>
  <dc:subject/>
  <dc:title>The Instrument Rating -  “Flying in the Clouds”</dc:title>
</cp:coreProperties>
</file>